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BABCBDD-4D13-404A-8746-C62C8B7BA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9BEEAAE-E5DD-44F7-84B4-AE034E387B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D5FBBA9-F2D7-4156-90AC-B4939E8FD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DE13510-02A6-4578-90AD-886177F57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ITA  2009. All Rights Reserv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JEITA ; Japan Electronics and Information Technology Industries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8580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HOJI, Kazuyoshi (Hitachi ULSI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EITA EDA-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 IBIS Activities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4479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BIS Su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kyo, Ja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vember 06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12193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verall still weak, Slow recovery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Goo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Government Incentive Package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for Cars and Consumer Electr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Japanese Hybrid Vehicles Strong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China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JAPAN ECONOMY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20076471\Local Settings\Temporary Internet Files\Content.IE5\7D35I1IK\MCj03838460000[1].wmf"/>
          <p:cNvPicPr/>
          <p:nvPr/>
        </p:nvPicPr>
        <p:blipFill>
          <a:blip r:embed="rId1"/>
          <a:stretch/>
        </p:blipFill>
        <p:spPr>
          <a:xfrm rot="8203800">
            <a:off x="6756120" y="1182600"/>
            <a:ext cx="94284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20076471\Local Settings\Temporary Internet Files\Content.IE5\U89X9CL8\MCj03980330000[1].wmf"/>
          <p:cNvPicPr/>
          <p:nvPr/>
        </p:nvPicPr>
        <p:blipFill>
          <a:blip r:embed="rId2"/>
          <a:stretch/>
        </p:blipFill>
        <p:spPr>
          <a:xfrm>
            <a:off x="7543800" y="3727440"/>
            <a:ext cx="79848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20076471\Local Settings\Temporary Internet Files\Content.IE5\AXM783ZC\MCj04047070000[1].wmf"/>
          <p:cNvPicPr/>
          <p:nvPr/>
        </p:nvPicPr>
        <p:blipFill>
          <a:blip r:embed="rId3"/>
          <a:stretch/>
        </p:blipFill>
        <p:spPr>
          <a:xfrm>
            <a:off x="5943600" y="3117960"/>
            <a:ext cx="159552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C:\Documents and Settings\20076471\Local Settings\Temporary Internet Files\Content.IE5\EPX30QWO\MCj02318920000[1].wmf"/>
          <p:cNvPicPr/>
          <p:nvPr/>
        </p:nvPicPr>
        <p:blipFill>
          <a:blip r:embed="rId4"/>
          <a:stretch/>
        </p:blipFill>
        <p:spPr>
          <a:xfrm>
            <a:off x="380880" y="4572000"/>
            <a:ext cx="1778040" cy="1908000"/>
          </a:xfrm>
          <a:prstGeom prst="rect">
            <a:avLst/>
          </a:prstGeom>
          <a:ln w="0">
            <a:noFill/>
          </a:ln>
        </p:spPr>
      </p:pic>
      <p:sp>
        <p:nvSpPr>
          <p:cNvPr id="54" name="正方形/長方形 14"/>
          <p:cNvSpPr/>
          <p:nvPr/>
        </p:nvSpPr>
        <p:spPr>
          <a:xfrm>
            <a:off x="2209680" y="4876920"/>
            <a:ext cx="5410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Design opportun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creas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in selective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1523880"/>
            <a:ext cx="4419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Product Introdu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Easy Design Entry for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124080"/>
            <a:ext cx="33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Lower Design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Reduce Design Cy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648320"/>
            <a:ext cx="358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5571000" y="1676520"/>
            <a:ext cx="2649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IBIS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5"/>
          <p:cNvSpPr/>
          <p:nvPr/>
        </p:nvSpPr>
        <p:spPr>
          <a:xfrm>
            <a:off x="-105480" y="1066680"/>
            <a:ext cx="20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SA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-130680" y="2590920"/>
            <a:ext cx="187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COS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7"/>
          <p:cNvSpPr/>
          <p:nvPr/>
        </p:nvSpPr>
        <p:spPr>
          <a:xfrm>
            <a:off x="-202680" y="4191120"/>
            <a:ext cx="340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TECHNOLOG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8"/>
          <p:cNvSpPr/>
          <p:nvPr/>
        </p:nvSpPr>
        <p:spPr>
          <a:xfrm>
            <a:off x="5664240" y="3276720"/>
            <a:ext cx="315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Quality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9"/>
          <p:cNvSpPr/>
          <p:nvPr/>
        </p:nvSpPr>
        <p:spPr>
          <a:xfrm>
            <a:off x="5608080" y="4800600"/>
            <a:ext cx="3465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New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0"/>
          <p:cNvSpPr/>
          <p:nvPr/>
        </p:nvSpPr>
        <p:spPr>
          <a:xfrm>
            <a:off x="-345600" y="304920"/>
            <a:ext cx="476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Modeling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Documents and Settings\20076471\Local Settings\Temporary Internet Files\Content.IE5\U89X9CL8\MCj03979490000[1].wmf"/>
          <p:cNvPicPr/>
          <p:nvPr/>
        </p:nvPicPr>
        <p:blipFill>
          <a:blip r:embed="rId1"/>
          <a:stretch/>
        </p:blipFill>
        <p:spPr>
          <a:xfrm>
            <a:off x="3886200" y="2590920"/>
            <a:ext cx="1150920" cy="116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Program Files\Microsoft Office\MEDIA\CAGCAT10\j0199805.wmf"/>
          <p:cNvPicPr/>
          <p:nvPr/>
        </p:nvPicPr>
        <p:blipFill>
          <a:blip r:embed="rId2"/>
          <a:stretch/>
        </p:blipFill>
        <p:spPr>
          <a:xfrm>
            <a:off x="3733920" y="4114800"/>
            <a:ext cx="17888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C:\Documents and Settings\20076471\Local Settings\Temporary Internet Files\Content.IE5\AXM783ZC\MCj02229970000[1].wmf"/>
          <p:cNvPicPr/>
          <p:nvPr/>
        </p:nvPicPr>
        <p:blipFill>
          <a:blip r:embed="rId3"/>
          <a:stretch/>
        </p:blipFill>
        <p:spPr>
          <a:xfrm>
            <a:off x="4724280" y="990720"/>
            <a:ext cx="685800" cy="1298520"/>
          </a:xfrm>
          <a:prstGeom prst="rect">
            <a:avLst/>
          </a:prstGeom>
          <a:ln w="0">
            <a:noFill/>
          </a:ln>
        </p:spPr>
      </p:pic>
      <p:sp>
        <p:nvSpPr>
          <p:cNvPr id="68" name="直線コネクタ 16"/>
          <p:cNvSpPr/>
          <p:nvPr/>
        </p:nvSpPr>
        <p:spPr>
          <a:xfrm>
            <a:off x="5857920" y="121932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8"/>
          <p:cNvSpPr/>
          <p:nvPr/>
        </p:nvSpPr>
        <p:spPr>
          <a:xfrm>
            <a:off x="5182200" y="849240"/>
            <a:ext cx="42379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HGP創英角ｺﾞｼｯｸUB"/>
                <a:ea typeface="HGP創英角ｺﾞｼｯｸUB"/>
              </a:rPr>
              <a:t>Design Communities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図表 1" descr=""/>
          <p:cNvPicPr/>
          <p:nvPr/>
        </p:nvPicPr>
        <p:blipFill>
          <a:blip r:embed="rId1"/>
          <a:stretch/>
        </p:blipFill>
        <p:spPr>
          <a:xfrm>
            <a:off x="2279520" y="987480"/>
            <a:ext cx="6870960" cy="5114880"/>
          </a:xfrm>
          <a:prstGeom prst="rect">
            <a:avLst/>
          </a:prstGeom>
          <a:ln w="0">
            <a:noFill/>
          </a:ln>
        </p:spPr>
      </p:pic>
      <p:sp>
        <p:nvSpPr>
          <p:cNvPr id="71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IBIS Support in JA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3"/>
          <p:cNvSpPr/>
          <p:nvPr/>
        </p:nvSpPr>
        <p:spPr>
          <a:xfrm>
            <a:off x="609480" y="16765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ITA EC center / EDA 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ader : Watanabe, Takes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C Electroni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"/>
          <p:cNvSpPr/>
          <p:nvPr/>
        </p:nvSpPr>
        <p:spPr>
          <a:xfrm>
            <a:off x="316440" y="120024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pport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Quality Framework for Low Speed Models 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Entering 2nd Stage for High Spe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Hamaji-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2040" y="4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BIS qua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00320" y="29559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connect mo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28600" y="3581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Modeling of passive device, connectors &amp; cable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using s-parameter problem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Ikeda-s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C:\Documents and Settings\20076471\Local Settings\Temporary Internet Files\Content.IE5\EPX30QWO\MCj02953640000[1].wmf"/>
          <p:cNvPicPr/>
          <p:nvPr/>
        </p:nvPicPr>
        <p:blipFill>
          <a:blip r:embed="rId1"/>
          <a:stretch/>
        </p:blipFill>
        <p:spPr>
          <a:xfrm>
            <a:off x="6751800" y="4114800"/>
            <a:ext cx="2392200" cy="20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C:\Documents and Settings\20076471\Local Settings\Temporary Internet Files\Content.IE5\U89X9CL8\MCj04231770000[1].wmf"/>
          <p:cNvPicPr/>
          <p:nvPr/>
        </p:nvPicPr>
        <p:blipFill>
          <a:blip r:embed="rId2"/>
          <a:stretch/>
        </p:blipFill>
        <p:spPr>
          <a:xfrm>
            <a:off x="7223040" y="1668600"/>
            <a:ext cx="15829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8600" y="114300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emporally suspended las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Many engineers requested for pub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blic deman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started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Will be Published So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1680" y="4572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20076471\Local Settings\Temporary Internet Files\Content.IE5\EPX30QWO\MCj04270930000[1].wmf"/>
          <p:cNvPicPr/>
          <p:nvPr/>
        </p:nvPicPr>
        <p:blipFill>
          <a:blip r:embed="rId1"/>
          <a:stretch/>
        </p:blipFill>
        <p:spPr>
          <a:xfrm>
            <a:off x="6783480" y="596880"/>
            <a:ext cx="142848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20076471\Local Settings\Temporary Internet Files\Content.IE5\U89X9CL8\MCj01976620000[1].wmf"/>
          <p:cNvPicPr/>
          <p:nvPr/>
        </p:nvPicPr>
        <p:blipFill>
          <a:blip r:embed="rId2"/>
          <a:stretch/>
        </p:blipFill>
        <p:spPr>
          <a:xfrm>
            <a:off x="5867280" y="2895480"/>
            <a:ext cx="2890800" cy="29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Documents and Settings\20076471\Local Settings\Temporary Internet Files\Content.IE5\EPX30QWO\MCj03608220000[1].wmf"/>
          <p:cNvPicPr/>
          <p:nvPr/>
        </p:nvPicPr>
        <p:blipFill>
          <a:blip r:embed="rId3"/>
          <a:stretch/>
        </p:blipFill>
        <p:spPr>
          <a:xfrm>
            <a:off x="1219320" y="4114800"/>
            <a:ext cx="1803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80880" y="45720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sists of two par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1st. pa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Introduction to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Some design example using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nd. 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ffici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IBIS spec. ver.5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www.kocho-net.com/img/01.gif"/>
          <p:cNvPicPr/>
          <p:nvPr/>
        </p:nvPicPr>
        <p:blipFill>
          <a:blip r:embed="rId1"/>
          <a:stretch/>
        </p:blipFill>
        <p:spPr>
          <a:xfrm>
            <a:off x="5638680" y="5316480"/>
            <a:ext cx="2505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20076471\Local Settings\Temporary Internet Files\Content.IE5\AXM783ZC\MCj04164180000[1].wmf"/>
          <p:cNvPicPr/>
          <p:nvPr/>
        </p:nvPicPr>
        <p:blipFill>
          <a:blip r:embed="rId2"/>
          <a:stretch/>
        </p:blipFill>
        <p:spPr>
          <a:xfrm>
            <a:off x="5907240" y="1066680"/>
            <a:ext cx="1719000" cy="1501920"/>
          </a:xfrm>
          <a:prstGeom prst="rect">
            <a:avLst/>
          </a:prstGeom>
          <a:ln w="0">
            <a:noFill/>
          </a:ln>
        </p:spPr>
      </p:pic>
      <p:sp>
        <p:nvSpPr>
          <p:cNvPr id="88" name="正方形/長方形 10"/>
          <p:cNvSpPr/>
          <p:nvPr/>
        </p:nvSpPr>
        <p:spPr>
          <a:xfrm>
            <a:off x="457200" y="4935600"/>
            <a:ext cx="56386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ll be Published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gyo Chosakai publishing, In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ttp://www.kocho-net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5"/>
          <p:cNvSpPr/>
          <p:nvPr/>
        </p:nvSpPr>
        <p:spPr>
          <a:xfrm>
            <a:off x="1465200" y="3962520"/>
            <a:ext cx="6202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HGP創英角ﾎﾟｯﾌﾟ体"/>
                <a:ea typeface="HGP創英角ﾎﾟｯﾌﾟ体"/>
              </a:rPr>
              <a:t>Please Use it as a ‘REFERENCE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図 1" descr="ibis_new.gif"/>
          <p:cNvPicPr/>
          <p:nvPr/>
        </p:nvPicPr>
        <p:blipFill>
          <a:blip r:embed="rId1"/>
          <a:stretch/>
        </p:blipFill>
        <p:spPr>
          <a:xfrm>
            <a:off x="5162400" y="121932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図 2" descr="ibis.gif"/>
          <p:cNvPicPr/>
          <p:nvPr/>
        </p:nvPicPr>
        <p:blipFill>
          <a:blip r:embed="rId2"/>
          <a:stretch/>
        </p:blipFill>
        <p:spPr>
          <a:xfrm>
            <a:off x="1209600" y="3200400"/>
            <a:ext cx="2143080" cy="18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20076471\Local Settings\Temporary Internet Files\Content.IE5\7D35I1IK\MMj02363570000[1].gif"/>
          <p:cNvPicPr/>
          <p:nvPr/>
        </p:nvPicPr>
        <p:blipFill>
          <a:blip r:embed="rId3"/>
          <a:stretch/>
        </p:blipFill>
        <p:spPr>
          <a:xfrm>
            <a:off x="68580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20076471\Local Settings\Temporary Internet Files\Content.IE5\7D35I1IK\MMj02363570000[1].gif"/>
          <p:cNvPicPr/>
          <p:nvPr/>
        </p:nvPicPr>
        <p:blipFill>
          <a:blip r:embed="rId4"/>
          <a:stretch/>
        </p:blipFill>
        <p:spPr>
          <a:xfrm>
            <a:off x="144792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20076471\Local Settings\Temporary Internet Files\Content.IE5\7D35I1IK\MMj02363570000[1].gif"/>
          <p:cNvPicPr/>
          <p:nvPr/>
        </p:nvPicPr>
        <p:blipFill>
          <a:blip r:embed="rId5"/>
          <a:stretch/>
        </p:blipFill>
        <p:spPr>
          <a:xfrm>
            <a:off x="2209680" y="3819600"/>
            <a:ext cx="1121040" cy="1525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330960" y="3733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NEW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27240" y="3200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OLD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55600" y="53341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urrent  Econo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" y="1066680"/>
            <a:ext cx="5334120" cy="1556280"/>
          </a:xfrm>
          <a:prstGeom prst="rect">
            <a:avLst/>
          </a:prstGeom>
          <a:solidFill>
            <a:srgbClr val="2d2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ank you for your suppor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IS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frying up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ENIX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矢印 12"/>
          <p:cNvSpPr/>
          <p:nvPr/>
        </p:nvSpPr>
        <p:spPr>
          <a:xfrm rot="19656000">
            <a:off x="4044960" y="3417480"/>
            <a:ext cx="1295280" cy="685800"/>
          </a:xfrm>
          <a:prstGeom prst="right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SHOJI</cp:lastModifiedBy>
  <dcterms:modified xsi:type="dcterms:W3CDTF">2009-11-04T00:49:17Z</dcterms:modified>
  <cp:revision>653</cp:revision>
  <dc:subject/>
  <dc:title>JEITA</dc:title>
</cp:coreProperties>
</file>